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B1C7-E6CC-4F1A-A045-8E4F09E7CA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388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tricked into modifying SMRAM cod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C0D-5141-4BB4-8BAE-2CEEC406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050-5953-4363-8875-01D0E6FC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7A8-5F0F-466D-B41B-861502A7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6A9-7AFA-4D7A-965A-D8B5A943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6BE3-BAF5-4210-A118-2456132F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48BE-F351-41E9-88A8-96BA3238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08FB-5406-46AB-A44F-49DE6691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A5AF-60CD-4017-AD85-70E015E6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69E2-BC16-4F0F-918C-BFB51A67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6D70-4F26-4209-B19F-F9AA8240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5DE0-FFAE-4641-A04F-FC1684DE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3B0-C30E-41BE-9275-38E5B0CE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C4B4-D462-4BAE-91B8-61BD9273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2E6E-6A36-458B-A65A-02643347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A203-FD66-4EC1-AB03-1DF706BE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A32E-CF1A-48E3-92C4-9B5AF84E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B515-230B-4834-8EC5-41A8B550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E8D-BF6D-4751-B199-78593126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659-3C35-4375-97BD-5AE181C0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00F-9F47-4440-8E31-B195ABC6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3C0-454F-4B28-94E9-AB19105C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F1B-85B3-4126-953F-D0CD331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668-FDE0-4C53-9695-67BA583B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D7D-14E8-4E1A-9750-813A80E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7E4B-01EB-42EA-A5B4-556CB4C40E1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8B0D-C9AA-477F-9901-B7D5CB7C7FD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3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curity Issues Related to Pentium System Management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1160" y="373392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ïc Duf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rection Centrale de la Sécurité des Systèmes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ic.duflot@sgdn.pm.gouv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624852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DN/DCSSI 51 boulevard de la Tour Maubourg 75007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med I/O a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different hardware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OPL bits. (EFLAGS regi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bits in the I/O bitmap of the current hardware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&gt; Two different system ca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pl (i386_iopl, /dev/io and the li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perm (i386_set_ioperm and the li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ystem Management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enance m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efficient power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specific proprietary c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4083120"/>
            <a:ext cx="2057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235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540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48448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5149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8400" y="42354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8400" y="45403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8400" y="48448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8400" y="39304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5378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85840" y="5911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9280" y="560700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M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60160" y="45403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33480" y="575928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 to calling contex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41520" y="3657600"/>
            <a:ext cx="58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rt a “System Management Interrupt” (SMI) from any other mo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7880" y="4006800"/>
            <a:ext cx="14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mal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5720" y="492120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ury Roll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5400" y="431172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TC 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616280"/>
            <a:ext cx="13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O, 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920" y="-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enerating the SMI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9" name="SMI2" descr=""/>
          <p:cNvPicPr/>
          <p:nvPr/>
        </p:nvPicPr>
        <p:blipFill>
          <a:blip r:embed="rId1"/>
          <a:stretch/>
        </p:blipFill>
        <p:spPr>
          <a:xfrm>
            <a:off x="77760" y="609480"/>
            <a:ext cx="555300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SMI1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867280" cy="564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ystem Management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parate execution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rocessor register is saved upon assertion of the S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xt (state) will be restored upon execution of « RSM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M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access to all physical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access to all Programmed I/O 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mory in SM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m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4 Gb of physical memory may be acc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mode addressing style. (20-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: segment limits are extended to 4 G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: 32-bit operand-size override prefixes  may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mov1" descr=""/>
          <p:cNvPicPr/>
          <p:nvPr/>
        </p:nvPicPr>
        <p:blipFill>
          <a:blip r:embed="rId1"/>
          <a:stretch/>
        </p:blipFill>
        <p:spPr>
          <a:xfrm>
            <a:off x="3048120" y="5869080"/>
            <a:ext cx="3733560" cy="37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mov2" descr=""/>
          <p:cNvPicPr/>
          <p:nvPr/>
        </p:nvPicPr>
        <p:blipFill>
          <a:blip r:embed="rId2"/>
          <a:stretch/>
        </p:blipFill>
        <p:spPr>
          <a:xfrm>
            <a:off x="3200400" y="3429000"/>
            <a:ext cx="3276720" cy="7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324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Address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mode: 1 Mb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Trans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:Offset = Segment &lt;&lt;4 +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0xA000:0x8000 = 0xA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ly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tartup and shutdow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used to benefit from BIOS functiona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s to protected mode unrestricted. Transitions from protected mode restri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8086 processor just a little fas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irtual 8086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mode embedded into protected m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ng 3 execution con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e the behavior of a 8086 proces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may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-bit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is only allowed during hardware task switch or interrupt hand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mory Prot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Paging and Segmentation security mechanisms only exist in Protected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X/Segmexec prevent introduction/execution of arbitrary cod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that’s not true outside of protected mode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at’s ok because there is no way to switch to other modes from userspace,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M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1600" y="2133720"/>
            <a:ext cx="19126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31200" y="398772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 + 0xFF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40200" y="444492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 + 0xFE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5560" y="525780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 +0x8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74600" y="609588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8880" y="16765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84320" y="5226120"/>
            <a:ext cx="258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rst SMI Handle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83960" y="4114800"/>
            <a:ext cx="25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or context prior S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6080" y="484488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de, Heap and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53520" y="41911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save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752480"/>
            <a:ext cx="3292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ly localized in unused memory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1560" y="198108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MBASE + 0x1FF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200400"/>
            <a:ext cx="329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ually SMBASE=0xA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819160" y="4114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819160" y="4572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819160" y="5410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1960" y="2438280"/>
            <a:ext cx="3749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 processor doc: SMBASE=0x3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 Chipset doc: SMBASE=0xA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te Save Area Ma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6" name="map2" descr=""/>
          <p:cNvPicPr/>
          <p:nvPr/>
        </p:nvPicPr>
        <p:blipFill>
          <a:blip r:embed="rId1"/>
          <a:stretch/>
        </p:blipFill>
        <p:spPr>
          <a:xfrm>
            <a:off x="0" y="914400"/>
            <a:ext cx="5972040" cy="2076480"/>
          </a:xfrm>
          <a:prstGeom prst="rect">
            <a:avLst/>
          </a:prstGeom>
          <a:ln w="0">
            <a:noFill/>
          </a:ln>
        </p:spPr>
      </p:pic>
      <p:pic>
        <p:nvPicPr>
          <p:cNvPr id="267" name="map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162240" y="2933640"/>
            <a:ext cx="5981760" cy="3924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H="1">
            <a:off x="594360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19051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94360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1720" y="1676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PL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6019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7040" y="55627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1080" y="4800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76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826600" y="1295280"/>
            <a:ext cx="316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 to physical address 0xA8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427040" y="1143000"/>
            <a:ext cx="5461200" cy="1752120"/>
            <a:chOff x="1427040" y="1143000"/>
            <a:chExt cx="5461200" cy="1752120"/>
          </a:xfrm>
        </p:grpSpPr>
        <p:sp>
          <p:nvSpPr>
            <p:cNvPr id="280" name=""/>
            <p:cNvSpPr/>
            <p:nvPr/>
          </p:nvSpPr>
          <p:spPr>
            <a:xfrm>
              <a:off x="1427040" y="1143000"/>
              <a:ext cx="16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Times New Roman"/>
                </a:rPr>
                <a:t>Protected M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37280" y="2178000"/>
              <a:ext cx="165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D_OPEN = 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72920" y="217800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D_OPE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180600" y="2285280"/>
              <a:ext cx="1087560" cy="60948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10" stAng="10800000" swAng="5400000"/>
                  <a:lnTo>
                    <a:pt x="12427" y="495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208"/>
                  </a:lnTo>
                  <a:lnTo>
                    <a:pt x="12427" y="7208"/>
                  </a:lnTo>
                  <a:arcTo wR="10169" hR="4952" stAng="16200000" swAng="-5400000"/>
                  <a:lnTo>
                    <a:pt x="2258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986360" y="2285280"/>
              <a:ext cx="1089000" cy="60948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10" stAng="10800000" swAng="5400000"/>
                  <a:lnTo>
                    <a:pt x="12427" y="495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208"/>
                  </a:lnTo>
                  <a:lnTo>
                    <a:pt x="12427" y="7208"/>
                  </a:lnTo>
                  <a:arcTo wR="10169" hR="4952" stAng="16200000" swAng="-5400000"/>
                  <a:lnTo>
                    <a:pt x="2258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317600" y="1828800"/>
            <a:ext cx="4760640" cy="1066320"/>
            <a:chOff x="1317600" y="1828800"/>
            <a:chExt cx="4760640" cy="1066320"/>
          </a:xfrm>
        </p:grpSpPr>
        <p:sp>
          <p:nvSpPr>
            <p:cNvPr id="286" name=""/>
            <p:cNvSpPr/>
            <p:nvPr/>
          </p:nvSpPr>
          <p:spPr>
            <a:xfrm>
              <a:off x="1317600" y="1828800"/>
              <a:ext cx="17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Times New Roman"/>
                </a:rPr>
                <a:t>SMM M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975200" y="2285280"/>
              <a:ext cx="1103040" cy="609480"/>
            </a:xfrm>
            <a:custGeom>
              <a:avLst/>
              <a:gdLst>
                <a:gd name="textAreaLeft" fmla="*/ 0 w 1103040"/>
                <a:gd name="textAreaRight" fmla="*/ 1103040 w 110304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10" stAng="10800000" swAng="5400000"/>
                  <a:lnTo>
                    <a:pt x="12427" y="4950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7208"/>
                  </a:lnTo>
                  <a:lnTo>
                    <a:pt x="12427" y="7208"/>
                  </a:lnTo>
                  <a:arcTo wR="10169" hR="4952" stAng="16200000" swAng="-5400000"/>
                  <a:lnTo>
                    <a:pt x="2258" y="216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cessing SMR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65440" y="1371600"/>
            <a:ext cx="2057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37120" y="28195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36840" y="4419720"/>
            <a:ext cx="2514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3280" y="59878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2160" y="59878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69400" y="59878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2728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9432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8468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896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74800" y="487692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4360" y="48006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00240" y="47689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79840" y="213372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79840" y="373392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70360" y="388620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Hub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12880" y="3276720"/>
            <a:ext cx="1524240" cy="152280"/>
          </a:xfrm>
          <a:prstGeom prst="leftRightArrow">
            <a:avLst>
              <a:gd name="adj1" fmla="val 50000"/>
              <a:gd name="adj2" fmla="val 1992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51520" y="327672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7040" y="2971800"/>
            <a:ext cx="18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including SM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76960" y="300024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63680" y="16002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15240" y="300024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rth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03920" y="4724280"/>
            <a:ext cx="11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outh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MRAM control regis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2101680"/>
            <a:ext cx="121932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480" y="47689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438768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4006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3625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244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2863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2482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971440" y="3016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971440" y="2635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971440" y="3397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9880" y="286380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6200" y="24829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2160" y="32446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3600" y="36259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80280" y="21463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44400" y="2254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5320" y="4921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81040" y="426708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pset-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5440" y="5486400"/>
            <a:ext cx="227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RAM control regist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-bit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397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LCK: Locks SMRAM control regis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220680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OPEN: Enables all SMRAM accesses even if not in S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816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_CLOSE: No data type accesses to SMRAM sp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38545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: Enables SMM functio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971440" y="3778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76880" y="45784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-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40384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83160 h 1067040"/>
              <a:gd name="textAreaBottom" fmla="*/ 9838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sible attack sche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 System Management Interru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SMRAM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default SMI Handler by custom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SMRAM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access to restricted oper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quired privileg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 access privileges on the SMRAM control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 access privileges on at least one of the I/O registers that can trigger the S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I/O access to corresponding SMI-enable regis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ccess to SMRAM (0xA0000-BFFF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&gt; Write access to the legacy video 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penBS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3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-aware opera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protection: W^X, guard pages, randomized malloc() and mmap(), etc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324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penBS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ure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securelevel" descr=""/>
          <p:cNvPicPr/>
          <p:nvPr/>
        </p:nvPicPr>
        <p:blipFill>
          <a:blip r:embed="rId1"/>
          <a:stretch/>
        </p:blipFill>
        <p:spPr>
          <a:xfrm>
            <a:off x="1409760" y="1495440"/>
            <a:ext cx="7048440" cy="5286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295280" y="1476360"/>
            <a:ext cx="2743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3305160"/>
            <a:ext cx="2743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5286240"/>
            <a:ext cx="27432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3686040"/>
            <a:ext cx="6172200" cy="381240"/>
          </a:xfrm>
          <a:prstGeom prst="rect">
            <a:avLst/>
          </a:pr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371840"/>
            <a:ext cx="6172200" cy="228600"/>
          </a:xfrm>
          <a:prstGeom prst="rect">
            <a:avLst/>
          </a:prstGeom>
          <a:noFill/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al Memory A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OpenBSD-based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ecurelevel &gt;0 /dev/mem and /dev/kmem cannot be written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ven root cannot directly write to physical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et, the display server (X) needs to be able to map MMIO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/dev/xf8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the /dev/xf86 pseudo-f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ev/mem but only in video memory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opened at most once (at a tim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opened if the  machdep.allowaperture variable is set to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tium System Management mode can be used to circumvent operating system security mech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hardware functionalities can be misused by an attacker as a means for privilege esca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legal and documented functionalities are used in the privilege escalation 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ic approach…: 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6 (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V, Xe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ever the functionality exists. (some chipset do not implement SMM-related functional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owaper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et access to  /dev/xf86 is allo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prevents access to both /dev/xf86 and i386_iopl() (and i386_set_ioper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allowaperture" descr=""/>
          <p:cNvPicPr/>
          <p:nvPr/>
        </p:nvPicPr>
        <p:blipFill>
          <a:blip r:embed="rId1"/>
          <a:srcRect l="6794" t="15382" r="0" b="0"/>
          <a:stretch/>
        </p:blipFill>
        <p:spPr>
          <a:xfrm>
            <a:off x="1219320" y="3693960"/>
            <a:ext cx="7315200" cy="2097360"/>
          </a:xfrm>
          <a:prstGeom prst="rect">
            <a:avLst/>
          </a:prstGeom>
          <a:ln w="0">
            <a:noFill/>
          </a:ln>
        </p:spPr>
      </p:pic>
      <p:pic>
        <p:nvPicPr>
          <p:cNvPr id="363" name="allowaperture" descr=""/>
          <p:cNvPicPr/>
          <p:nvPr/>
        </p:nvPicPr>
        <p:blipFill>
          <a:blip r:embed="rId2"/>
          <a:srcRect l="971" t="0" r="0" b="84637"/>
          <a:stretch/>
        </p:blipFill>
        <p:spPr>
          <a:xfrm>
            <a:off x="1143000" y="3352680"/>
            <a:ext cx="7772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grammed I/O ports a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OpenBSD two different system calls are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386_io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386_set_io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Linux (linux_sys_iopl, linux_sys_ioperm) and FreeBSD (KDENABIO ioctl) compatibility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386_set_ioperm cannot be used to request access to ports 0xcfc and 0xcf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386_iopl and i386_set_ioperm restricted to superuser-owned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sample exploit against OpenBS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ssume that the target system is running OpenBSD in Highly Secure mode with allowaperture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ssume that an attacker has found a way to execute code with superuser privile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he attacker may use the i386_iopl call (unrestricted Programmed I/O access) and write to the /dev/xf86 device (write access to the 0xA0000-0xBFFFF memory rang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attacker still lacks a way to get to kernel (ring 0 random code execution)  privileg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proof-of-concept explo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in highly secure mode (or secure level) to kernel privilege escalation 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m: For example, lower the securelevel to « Permanently insecure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us: Modification of the EIP register while in S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tions carried out on a PC equipped with a 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, and a Inte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CH/GMCH-ICH2/ICH5 chip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st step: Locating the securelevel vari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address: nm /bsd | grep secure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40160" y="338472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92840" y="3384720"/>
            <a:ext cx="914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40160" y="3384720"/>
            <a:ext cx="914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92840" y="4908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4" idx="3"/>
            <a:endCxn id="375" idx="1"/>
          </p:cNvCxnSpPr>
          <p:nvPr/>
        </p:nvCxnSpPr>
        <p:spPr>
          <a:xfrm>
            <a:off x="3454200" y="3765240"/>
            <a:ext cx="2439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1987560" y="300348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irtual memory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89120" y="297180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hysical memory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74560" y="3657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62400" y="51372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60360" y="5746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13040" y="5746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36720" y="32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4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83680" y="32767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4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41200" y="5365800"/>
            <a:ext cx="1713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xd0000000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11400" y="64008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n OpenBSD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nd Step: Craft Handl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handler" descr=""/>
          <p:cNvPicPr/>
          <p:nvPr/>
        </p:nvPicPr>
        <p:blipFill>
          <a:blip r:embed="rId1"/>
          <a:stretch/>
        </p:blipFill>
        <p:spPr>
          <a:xfrm>
            <a:off x="595440" y="1614600"/>
            <a:ext cx="839628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9" name=""/>
          <p:cNvSpPr/>
          <p:nvPr/>
        </p:nvSpPr>
        <p:spPr>
          <a:xfrm>
            <a:off x="1981080" y="3200400"/>
            <a:ext cx="3657600" cy="152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3rd Step: Default Handler Replacem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1" name="expoit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8076960" cy="467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st step: SMI gen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3" name="SMI" descr=""/>
          <p:cNvPicPr/>
          <p:nvPr/>
        </p:nvPicPr>
        <p:blipFill>
          <a:blip r:embed="rId1"/>
          <a:stretch/>
        </p:blipFill>
        <p:spPr>
          <a:xfrm>
            <a:off x="914400" y="2711520"/>
            <a:ext cx="8077320" cy="178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d it wor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o protected mode overwrites EIP with the address of the tes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gram displays that the secure level has been lowered. This proves that we had successfully gone into S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that the secure level was low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test" descr=""/>
          <p:cNvPicPr/>
          <p:nvPr/>
        </p:nvPicPr>
        <p:blipFill>
          <a:blip r:embed="rId1"/>
          <a:stretch/>
        </p:blipFill>
        <p:spPr>
          <a:xfrm>
            <a:off x="1676520" y="1685880"/>
            <a:ext cx="640080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ssible countermeas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from the system administrator: decide that the X server will not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dep.allowaperture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ch the BIOS or the OS: Set the D_LCK bit in the early boot s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 access to the SMRAM regist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d I/O fil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OPL, I/O Bitmap management on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IO accesses from ring 3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PC architecture and I/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Using System Management Mode to Circumvent Operating Syste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A sample exploit on OpenBS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iciency of the attac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2438280" y="1785960"/>
          <a:ext cx="5029200" cy="4157640"/>
        </p:xfrm>
        <a:graphic>
          <a:graphicData uri="http://schemas.openxmlformats.org/drawingml/2006/table">
            <a:tbl>
              <a:tblPr/>
              <a:tblGrid>
                <a:gridCol w="3047760"/>
                <a:gridCol w="198144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ack scheme wo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 X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ux 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B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B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B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3" name="croix" descr=""/>
          <p:cNvPicPr/>
          <p:nvPr/>
        </p:nvPicPr>
        <p:blipFill>
          <a:blip r:embed="rId1"/>
          <a:stretch/>
        </p:blipFill>
        <p:spPr>
          <a:xfrm>
            <a:off x="6248520" y="2548080"/>
            <a:ext cx="485640" cy="590400"/>
          </a:xfrm>
          <a:prstGeom prst="rect">
            <a:avLst/>
          </a:prstGeom>
          <a:ln w="0">
            <a:noFill/>
          </a:ln>
        </p:spPr>
      </p:pic>
      <p:pic>
        <p:nvPicPr>
          <p:cNvPr id="404" name="tick" descr=""/>
          <p:cNvPicPr/>
          <p:nvPr/>
        </p:nvPicPr>
        <p:blipFill>
          <a:blip r:embed="rId2"/>
          <a:stretch/>
        </p:blipFill>
        <p:spPr>
          <a:xfrm>
            <a:off x="6296040" y="3252960"/>
            <a:ext cx="485640" cy="590400"/>
          </a:xfrm>
          <a:prstGeom prst="rect">
            <a:avLst/>
          </a:prstGeom>
          <a:ln w="0">
            <a:noFill/>
          </a:ln>
        </p:spPr>
      </p:pic>
      <p:pic>
        <p:nvPicPr>
          <p:cNvPr id="405" name="tick" descr=""/>
          <p:cNvPicPr/>
          <p:nvPr/>
        </p:nvPicPr>
        <p:blipFill>
          <a:blip r:embed="rId3"/>
          <a:stretch/>
        </p:blipFill>
        <p:spPr>
          <a:xfrm>
            <a:off x="6296040" y="3938760"/>
            <a:ext cx="485640" cy="590400"/>
          </a:xfrm>
          <a:prstGeom prst="rect">
            <a:avLst/>
          </a:prstGeom>
          <a:ln w="0">
            <a:noFill/>
          </a:ln>
        </p:spPr>
      </p:pic>
      <p:pic>
        <p:nvPicPr>
          <p:cNvPr id="406" name="tick" descr=""/>
          <p:cNvPicPr/>
          <p:nvPr/>
        </p:nvPicPr>
        <p:blipFill>
          <a:blip r:embed="rId4"/>
          <a:stretch/>
        </p:blipFill>
        <p:spPr>
          <a:xfrm>
            <a:off x="6324480" y="4624560"/>
            <a:ext cx="486000" cy="590400"/>
          </a:xfrm>
          <a:prstGeom prst="rect">
            <a:avLst/>
          </a:prstGeom>
          <a:ln w="0">
            <a:noFill/>
          </a:ln>
        </p:spPr>
      </p:pic>
      <p:pic>
        <p:nvPicPr>
          <p:cNvPr id="407" name="tick" descr=""/>
          <p:cNvPicPr/>
          <p:nvPr/>
        </p:nvPicPr>
        <p:blipFill>
          <a:blip r:embed="rId5"/>
          <a:stretch/>
        </p:blipFill>
        <p:spPr>
          <a:xfrm>
            <a:off x="6324480" y="5310360"/>
            <a:ext cx="4860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vilege esca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most systems, being able to carry out this scheme means being granted superuser privile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OpenBSD, root is only granted limited privileges. That is why the attack scheme is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may be easier ways to bypass the Secure Level mechanism. But more than the result, the attack scheme in itself is interesting: unused, legacy or routinely used functionalities can be used from userspace to circumvent operating system security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problems is X requiring too many privile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ocumented functionalities of the Pentiu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or and its chipset were us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yet we have been able to circumvent operating system security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this point to a consistency issue in hardware and OS security mod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PL and I/O privileges at st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emonstrates the need for trust in, and wise use of, hardware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33560" y="4038480"/>
            <a:ext cx="4326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ic.duflot@sgdn.pm.gouv.f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22040" y="5891040"/>
            <a:ext cx="69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Joint work with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livier Grumelard (SGDN/DCSS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niel Etiemble (Paris XI University, LRI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mplified Pentium 4 architectu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72080" y="1295280"/>
            <a:ext cx="2057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27432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43480" y="4343400"/>
            <a:ext cx="2514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9560" y="59119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28800" y="5911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6040" y="591192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4876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800600"/>
            <a:ext cx="1524240" cy="152280"/>
          </a:xfrm>
          <a:prstGeom prst="leftRightArrow">
            <a:avLst>
              <a:gd name="adj1" fmla="val 50000"/>
              <a:gd name="adj2" fmla="val 1992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70640" y="4724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6880" y="46926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6480" y="205740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6480" y="3657600"/>
            <a:ext cx="228600" cy="685800"/>
          </a:xfrm>
          <a:prstGeom prst="upDownArrow">
            <a:avLst>
              <a:gd name="adj1" fmla="val 50000"/>
              <a:gd name="adj2" fmla="val 59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76640" y="38098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Hub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5400" y="2209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ront Sid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320040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3200400"/>
            <a:ext cx="1523880" cy="152280"/>
          </a:xfrm>
          <a:prstGeom prst="leftRightArrow">
            <a:avLst>
              <a:gd name="adj1" fmla="val 50000"/>
              <a:gd name="adj2" fmla="val 1992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75720" y="3048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3240" y="292428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9960" y="15238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1520" y="292428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rth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2920" y="4648320"/>
            <a:ext cx="117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outh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2590920"/>
            <a:ext cx="2971800" cy="2895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17524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447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hip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/O ports ac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 access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pped I/O (MM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O registers are mapped in physical address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d I/O (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/O registers are mapped on a separate 16-bit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Memory Access (D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s act as masters on the PCI b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Q to the proc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direct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nchron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ur modes of op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50532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495288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8086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20574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Address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2742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9112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3505320"/>
            <a:ext cx="2438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2362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495680" y="236196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49568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495680" y="4190760"/>
            <a:ext cx="2438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495680" y="4191120"/>
            <a:ext cx="2743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71760" y="3473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4720" y="39625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58880" y="2819520"/>
            <a:ext cx="8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=0 or 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32040" y="281952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434340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M=0 or 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2720" y="44197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M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6240" y="38862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4360" y="29718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1760" y="44956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9120" y="4648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7080" y="259092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sm or 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76" idx="1"/>
            <a:endCxn id="177" idx="1"/>
          </p:cNvCxnSpPr>
          <p:nvPr/>
        </p:nvCxnSpPr>
        <p:spPr>
          <a:xfrm flipH="1" rot="10800000">
            <a:off x="2057040" y="2399760"/>
            <a:ext cx="2160" cy="28962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tected m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security mechanis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 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rivileged: Ring 0 (kernel exec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st privileged: Ring 3 (user space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ation and Pa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-based memory protection che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instructions (HLT, LGDT, INV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 of execution of most operating systems (Windows, Linux, OpenBSD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tecting memory: Hardware mechanism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ilege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access restrictions (type and DP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(when enable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/supervisor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ecute/ eXecute Disabl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a few security techniques (W^X, PaX…) rely upon such mech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2:01:24Z</dcterms:created>
  <dc:creator>duflot</dc:creator>
  <dc:description/>
  <dc:language>en-US</dc:language>
  <cp:lastModifiedBy>SI</cp:lastModifiedBy>
  <dcterms:modified xsi:type="dcterms:W3CDTF">2006-04-06T19:39:13Z</dcterms:modified>
  <cp:revision>139</cp:revision>
  <dc:subject/>
  <dc:title>Étude des vulnérabilités potentielles liées au mode de maintenance SMM des composants Pentium.  </dc:title>
</cp:coreProperties>
</file>