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1600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BE0C-2141-4AF3-9ADC-6664D5D161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X be tricked into modifying SMRAM co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00BE-FD76-4F8A-85DE-2C626738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75AA-27BF-4A3D-B763-579F6299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67C7-491E-4AF0-A62D-7963F232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1777-DA79-44BF-9B5D-5D0E3B64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702E-7135-4D13-A05A-E9BC5224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1842-1EEB-4FA7-AF8B-F8ABA9E7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079C-6D7F-471A-868F-2FFD5F79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3DC7-AC69-436A-B97C-56C5F373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505C-6D36-42C9-8242-022212B4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CDCC-84DE-4984-A43A-CFA92E86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A3AC-178F-4CD5-8688-EFD1ABB5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AEE0-1E6F-40E0-9B9E-A16BFEB0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B7FC-4206-4A4B-9CA0-D90E3C1D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584D-33A2-45DF-B216-314EF291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9F64-3095-4012-BCA1-462F4EBD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5BA8-D165-44D7-A7BF-167D700A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CACC-2EAB-49C8-8439-99A212DA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47A9-98EE-4301-8343-B82B50F4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C033-65AC-4316-B669-7CD25A8C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8703-143C-46EA-836D-3A9C03FB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98A1-7EE9-4C1C-BE45-74C0567D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90C0-9F2E-4A0D-91E0-CC54C154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056A-94B4-43CF-B44A-B7B0DCE0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D0EA-BFE1-4CE9-8B95-EC52E8B4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3189-F0FE-4CA1-AD2E-4D7D02194FD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1975-2D0B-45A2-B32F-BB9FDA8EA25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39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ecurity Issues Related to Pentium System Management Mo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81160" y="3733920"/>
            <a:ext cx="6781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oïc Duf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irection Centrale de la Sécurité des Systèmes d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oic.duflot@sgdn.pm.gouv.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320" y="624852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GDN/DCSSI 51 boulevard de la Tour Maubourg 75007 P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grammed I/O acc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324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different hardware mechanis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IOPL bits. (EFLAGS regi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 bits in the I/O bitmap of the current hardware ta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&gt; Two different system ca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pl (i386_iopl, /dev/io and the li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perm (i386_set_ioperm and the li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ystem Management mo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enance mo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 efficient power mana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specific proprietary co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48520" y="4083120"/>
            <a:ext cx="20574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4235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95680" y="45403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48448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51498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08400" y="423540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08400" y="454032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08400" y="48448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08400" y="39304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5378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885840" y="5911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9280" y="560700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SM i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60160" y="45403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33480" y="5759280"/>
            <a:ext cx="21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ck to calling contex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41520" y="3657600"/>
            <a:ext cx="58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ert a “System Management Interrupt” (SMI) from any other mo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47880" y="4006800"/>
            <a:ext cx="14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mal 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45720" y="492120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ury Roll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5400" y="4311720"/>
            <a:ext cx="114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TC Al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1800" y="4616280"/>
            <a:ext cx="131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CO, 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920" y="-22860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enerating the SMI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9" name="SMI2" descr=""/>
          <p:cNvPicPr/>
          <p:nvPr/>
        </p:nvPicPr>
        <p:blipFill>
          <a:blip r:embed="rId1"/>
          <a:stretch/>
        </p:blipFill>
        <p:spPr>
          <a:xfrm>
            <a:off x="77760" y="609480"/>
            <a:ext cx="5553000" cy="563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0" name="SMI1" descr=""/>
          <p:cNvPicPr/>
          <p:nvPr/>
        </p:nvPicPr>
        <p:blipFill>
          <a:blip r:embed="rId2"/>
          <a:stretch/>
        </p:blipFill>
        <p:spPr>
          <a:xfrm>
            <a:off x="3048120" y="1066680"/>
            <a:ext cx="5867280" cy="564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ystem Management mo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parate execution 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processor register is saved upon assertion of the S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ext (state) will be restored upon execution of « RSM 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M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access to all physical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access to all Programmed I/O p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mory in SM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-bit mo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4 Gb of physical memory may be acce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mode addressing style. (20-b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: segment limits are extended to 4 G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: 32-bit operand-size override prefixes  may b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mov1" descr=""/>
          <p:cNvPicPr/>
          <p:nvPr/>
        </p:nvPicPr>
        <p:blipFill>
          <a:blip r:embed="rId1"/>
          <a:stretch/>
        </p:blipFill>
        <p:spPr>
          <a:xfrm>
            <a:off x="3048120" y="5869080"/>
            <a:ext cx="3733560" cy="37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6" name="mov2" descr=""/>
          <p:cNvPicPr/>
          <p:nvPr/>
        </p:nvPicPr>
        <p:blipFill>
          <a:blip r:embed="rId2"/>
          <a:stretch/>
        </p:blipFill>
        <p:spPr>
          <a:xfrm>
            <a:off x="3200400" y="3429000"/>
            <a:ext cx="3276720" cy="75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324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Address mo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-bit mode: 1 Mb addres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Transl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:Offset = Segment &lt;&lt;4 + Off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0xA000:0x8000 = 0xA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ly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startup and shutdown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used to benefit from BIOS functiona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ons to protected mode unrestricted. Transitions from protected mode restri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8086 processor just a little fas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irtual 8086 mo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al mode embedded into protected mo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ng 3 execution con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e the behavior of a 8086 process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ing may b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-bit m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is only allowed during hardware task switch or interrupt hand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mory Prote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Paging and Segmentation security mechanisms only exist in Protected M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X/Segmexec prevent introduction/execution of arbitrary cod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 that’s not true outside of protected mode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at’s ok because there is no way to switch to other modes from userspace, r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PC architecture and I/O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Using System Management Mode to Circumvent Operating System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A sample exploit on OpenBS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MR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1600" y="2133720"/>
            <a:ext cx="19126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31200" y="398772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MBASE + 0xFF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40200" y="4444920"/>
            <a:ext cx="164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MBASE + 0xFE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85560" y="525780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MBASE +0x8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74600" y="609588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M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8880" y="167652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24280" y="5410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84320" y="5226120"/>
            <a:ext cx="258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rst SMI Handler i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24280" y="4343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83960" y="4114800"/>
            <a:ext cx="25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ssor context prior SM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er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46080" y="4844880"/>
            <a:ext cx="198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de, Heap and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53520" y="41911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 save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1752480"/>
            <a:ext cx="3292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ysically localized in unused memory b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41560" y="198108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MBASE + 0x1FF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3200400"/>
            <a:ext cx="329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ually SMBASE=0xA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819160" y="41148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819160" y="45720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819160" y="5410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41960" y="2438280"/>
            <a:ext cx="37497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 processor doc: SMBASE=0x3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 Chipset doc: SMBASE=0xA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PC architecture and I/O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Using System Management Mode to Circumvent Operating System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A sample exploit on OpenBS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ate Save Area Ma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6" name="map2" descr=""/>
          <p:cNvPicPr/>
          <p:nvPr/>
        </p:nvPicPr>
        <p:blipFill>
          <a:blip r:embed="rId1"/>
          <a:stretch/>
        </p:blipFill>
        <p:spPr>
          <a:xfrm>
            <a:off x="0" y="914400"/>
            <a:ext cx="5972040" cy="2076480"/>
          </a:xfrm>
          <a:prstGeom prst="rect">
            <a:avLst/>
          </a:prstGeom>
          <a:ln w="0">
            <a:noFill/>
          </a:ln>
        </p:spPr>
      </p:pic>
      <p:pic>
        <p:nvPicPr>
          <p:cNvPr id="267" name="map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3162240" y="2933640"/>
            <a:ext cx="5981760" cy="3924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 flipH="1">
            <a:off x="5943600" y="2133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19051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ction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943600" y="1905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11720" y="167652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OPL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62320" y="60199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67040" y="556272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5029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1080" y="4800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sk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38280" y="3429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327672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ck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826600" y="1295280"/>
            <a:ext cx="316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s to physical address 0xA8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427040" y="1143000"/>
            <a:ext cx="5461200" cy="1752120"/>
            <a:chOff x="1427040" y="1143000"/>
            <a:chExt cx="5461200" cy="1752120"/>
          </a:xfrm>
        </p:grpSpPr>
        <p:sp>
          <p:nvSpPr>
            <p:cNvPr id="280" name=""/>
            <p:cNvSpPr/>
            <p:nvPr/>
          </p:nvSpPr>
          <p:spPr>
            <a:xfrm>
              <a:off x="1427040" y="1143000"/>
              <a:ext cx="169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3300"/>
                  </a:solidFill>
                  <a:latin typeface="Times New Roman"/>
                </a:rPr>
                <a:t>Protected Mod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37280" y="2178000"/>
              <a:ext cx="165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D_OPEN = 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72920" y="2178000"/>
              <a:ext cx="144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D_OPEN 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3180600" y="2285280"/>
              <a:ext cx="1087560" cy="609480"/>
            </a:xfrm>
            <a:custGeom>
              <a:avLst/>
              <a:gdLst>
                <a:gd name="textAreaLeft" fmla="*/ -360 w 1087560"/>
                <a:gd name="textAreaRight" fmla="*/ 1087560 w 10875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210" stAng="10800000" swAng="5400000"/>
                  <a:lnTo>
                    <a:pt x="12427" y="4950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7208"/>
                  </a:lnTo>
                  <a:lnTo>
                    <a:pt x="12427" y="7208"/>
                  </a:lnTo>
                  <a:arcTo wR="10169" hR="4952" stAng="16200000" swAng="-5400000"/>
                  <a:lnTo>
                    <a:pt x="2258" y="216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986360" y="2285280"/>
              <a:ext cx="1089000" cy="60948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210" stAng="10800000" swAng="5400000"/>
                  <a:lnTo>
                    <a:pt x="12427" y="4950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7208"/>
                  </a:lnTo>
                  <a:lnTo>
                    <a:pt x="12427" y="7208"/>
                  </a:lnTo>
                  <a:arcTo wR="10169" hR="4952" stAng="16200000" swAng="-5400000"/>
                  <a:lnTo>
                    <a:pt x="2258" y="216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317600" y="1828800"/>
            <a:ext cx="4760640" cy="1066320"/>
            <a:chOff x="1317600" y="1828800"/>
            <a:chExt cx="4760640" cy="1066320"/>
          </a:xfrm>
        </p:grpSpPr>
        <p:sp>
          <p:nvSpPr>
            <p:cNvPr id="286" name=""/>
            <p:cNvSpPr/>
            <p:nvPr/>
          </p:nvSpPr>
          <p:spPr>
            <a:xfrm>
              <a:off x="1317600" y="1828800"/>
              <a:ext cx="17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3300"/>
                  </a:solidFill>
                  <a:latin typeface="Times New Roman"/>
                </a:rPr>
                <a:t>SMM Mod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975200" y="2285280"/>
              <a:ext cx="1103040" cy="609480"/>
            </a:xfrm>
            <a:custGeom>
              <a:avLst/>
              <a:gdLst>
                <a:gd name="textAreaLeft" fmla="*/ 0 w 1103040"/>
                <a:gd name="textAreaRight" fmla="*/ 1103040 w 110304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210" stAng="10800000" swAng="5400000"/>
                  <a:lnTo>
                    <a:pt x="12427" y="4950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7208"/>
                  </a:lnTo>
                  <a:lnTo>
                    <a:pt x="12427" y="7208"/>
                  </a:lnTo>
                  <a:arcTo wR="10169" hR="4952" stAng="16200000" swAng="-5400000"/>
                  <a:lnTo>
                    <a:pt x="2258" y="216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cessing SMR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65440" y="1371600"/>
            <a:ext cx="2057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37120" y="28195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36840" y="4419720"/>
            <a:ext cx="2514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13280" y="598788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22160" y="59878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69400" y="598788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27280" y="5334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94320" y="5334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84680" y="5334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8960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74800" y="4876920"/>
            <a:ext cx="1523880" cy="152280"/>
          </a:xfrm>
          <a:prstGeom prst="leftRightArrow">
            <a:avLst>
              <a:gd name="adj1" fmla="val 50000"/>
              <a:gd name="adj2" fmla="val 1992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4360" y="480060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00240" y="47689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79840" y="2133720"/>
            <a:ext cx="228600" cy="685800"/>
          </a:xfrm>
          <a:prstGeom prst="upDownArrow">
            <a:avLst>
              <a:gd name="adj1" fmla="val 50000"/>
              <a:gd name="adj2" fmla="val 597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79840" y="3733920"/>
            <a:ext cx="228600" cy="685800"/>
          </a:xfrm>
          <a:prstGeom prst="upDownArrow">
            <a:avLst>
              <a:gd name="adj1" fmla="val 50000"/>
              <a:gd name="adj2" fmla="val 597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70360" y="38862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Hub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12880" y="3276720"/>
            <a:ext cx="1524240" cy="152280"/>
          </a:xfrm>
          <a:prstGeom prst="leftRightArrow">
            <a:avLst>
              <a:gd name="adj1" fmla="val 50000"/>
              <a:gd name="adj2" fmla="val 1992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51520" y="3276720"/>
            <a:ext cx="1523880" cy="152280"/>
          </a:xfrm>
          <a:prstGeom prst="leftRightArrow">
            <a:avLst>
              <a:gd name="adj1" fmla="val 50000"/>
              <a:gd name="adj2" fmla="val 1992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57040" y="2971800"/>
            <a:ext cx="18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including SMR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76960" y="300024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ispl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63680" y="160020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15240" y="3000240"/>
            <a:ext cx="73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North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03920" y="4724280"/>
            <a:ext cx="117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outh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MRAM control regist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52480" y="2101680"/>
            <a:ext cx="121932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52480" y="47689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52480" y="43876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4006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52480" y="3625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3244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52480" y="2863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52480" y="2482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971440" y="3016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971440" y="2635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971440" y="3397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9880" y="286380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_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06200" y="248292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_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2160" y="324468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_L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3600" y="36259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80280" y="21463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44400" y="2254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5320" y="4921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81040" y="426708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pset-speci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5440" y="5486400"/>
            <a:ext cx="227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RAM control regist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-bit 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3397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_LCK: Locks SMRAM control regis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220680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_OPEN: Enables all SMRAM accesses even if not in SM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28162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_CLOSE: No data type accesses to SMRAM sp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385452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: Enables SMM functiona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971440" y="3778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76880" y="45784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d-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8120" y="4038480"/>
            <a:ext cx="228600" cy="1067040"/>
          </a:xfrm>
          <a:custGeom>
            <a:avLst/>
            <a:gdLst>
              <a:gd name="textAreaLeft" fmla="*/ 0 w 228600"/>
              <a:gd name="textAreaRight" fmla="*/ 82440 w 228600"/>
              <a:gd name="textAreaTop" fmla="*/ 83160 h 1067040"/>
              <a:gd name="textAreaBottom" fmla="*/ 98388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sible attack sche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 System Management Interru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SMRAM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default SMI Handler by custom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SMRAM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ger S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in access to restricted oper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quired privileg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/O access privileges on the SMRAM control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/O access privileges on at least one of the I/O registers that can trigger the S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al I/O access to corresponding SMI-enable regist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ccess to SMRAM (0xA0000-BFFFF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&gt; Write access to the legacy video 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PC architecture and I/O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Using System Management Mode to Circumvent Operating System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A sample exploit on OpenBS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penBS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32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-aware operating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active secu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protection: W^X, guard pages, randomized malloc() and mmap(), etc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e le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324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penBS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cure Lev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securelevel" descr=""/>
          <p:cNvPicPr/>
          <p:nvPr/>
        </p:nvPicPr>
        <p:blipFill>
          <a:blip r:embed="rId1"/>
          <a:stretch/>
        </p:blipFill>
        <p:spPr>
          <a:xfrm>
            <a:off x="1409760" y="1495440"/>
            <a:ext cx="7048440" cy="52862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295280" y="1476360"/>
            <a:ext cx="27432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71600" y="3305160"/>
            <a:ext cx="27432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47920" y="5286240"/>
            <a:ext cx="27432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33720" y="3686040"/>
            <a:ext cx="6172200" cy="381240"/>
          </a:xfrm>
          <a:prstGeom prst="rect">
            <a:avLst/>
          </a:prstGeom>
          <a:noFill/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4371840"/>
            <a:ext cx="6172200" cy="228600"/>
          </a:xfrm>
          <a:prstGeom prst="rect">
            <a:avLst/>
          </a:prstGeom>
          <a:noFill/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520" y="3808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ysical Memory Acc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OpenBSD-based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ecurelevel &gt;0 /dev/mem and /dev/kmem cannot be written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at even root cannot directly write to physical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yet, the display server (X) needs to be able to map MMIO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/dev/xf86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the /dev/xf86 pseudo-f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dev/mem but only in video memory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opened at most once (at a tim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be opened if the  machdep.allowaperture variable is set to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tium System Management mode can be used to circumvent operating system security mech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how hardware functionalities can be misused by an attacker as a means for privilege esca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legal and documented functionalities are used in the privilege escalation sche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eneric approach…: Pentiu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6 (Pentiu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V, Xeo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Pentiu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o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ever the functionality exists. (some chipset do not implement SMM-related functional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owapert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et access to  /dev/xf86 is allow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 prevents access to both /dev/xf86 and i386_iopl() (and i386_set_ioper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allowaperture" descr=""/>
          <p:cNvPicPr/>
          <p:nvPr/>
        </p:nvPicPr>
        <p:blipFill>
          <a:blip r:embed="rId1"/>
          <a:srcRect l="6794" t="15382" r="0" b="0"/>
          <a:stretch/>
        </p:blipFill>
        <p:spPr>
          <a:xfrm>
            <a:off x="1219320" y="3693960"/>
            <a:ext cx="7315200" cy="2097360"/>
          </a:xfrm>
          <a:prstGeom prst="rect">
            <a:avLst/>
          </a:prstGeom>
          <a:ln w="0">
            <a:noFill/>
          </a:ln>
        </p:spPr>
      </p:pic>
      <p:pic>
        <p:nvPicPr>
          <p:cNvPr id="363" name="allowaperture" descr=""/>
          <p:cNvPicPr/>
          <p:nvPr/>
        </p:nvPicPr>
        <p:blipFill>
          <a:blip r:embed="rId2"/>
          <a:srcRect l="971" t="0" r="0" b="84637"/>
          <a:stretch/>
        </p:blipFill>
        <p:spPr>
          <a:xfrm>
            <a:off x="1143000" y="3352680"/>
            <a:ext cx="77724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23520" y="380880"/>
            <a:ext cx="678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grammed I/O ports acc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OpenBSD two different system calls are avail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386_io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386_set_iop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Linux (linux_sys_iopl, linux_sys_ioperm) and FreeBSD (KDENABIO ioctl) compatibility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386_set_ioperm cannot be used to request access to ports 0xcfc and 0xcf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386_iopl and i386_set_ioperm restricted to superuser-owned proc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sample exploit against OpenBS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ssume that the target system is running OpenBSD in Highly Secure mode with allowaperture=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ssume that an attacker has found a way to execute code with superuser privile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the attacker may use the i386_iopl call (unrestricted Programmed I/O access) and write to the /dev/xf86 device (write access to the 0xA0000-0xBFFFF memory rang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e attacker still lacks a way to get to kernel (ring 0 random code execution)  privileg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324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ample proof-of-concept exploi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ot in highly secure mode (or secure level) to kernel privilege escalation sche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m: For example, lower the securelevel to « Permanently insecure 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us: Modification of the EIP register while in SM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ations carried out on a PC equipped with a Pentiu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4, and a Inte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CH/GMCH-ICH2/ICH5 chip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1st step: Locating the securelevel variab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address: nm /bsd | grep secure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Add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40160" y="3384720"/>
            <a:ext cx="9144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92840" y="3384720"/>
            <a:ext cx="9144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40160" y="3384720"/>
            <a:ext cx="9144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92840" y="4908600"/>
            <a:ext cx="914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74" idx="3"/>
            <a:endCxn id="375" idx="1"/>
          </p:cNvCxnSpPr>
          <p:nvPr/>
        </p:nvCxnSpPr>
        <p:spPr>
          <a:xfrm>
            <a:off x="3454200" y="3765240"/>
            <a:ext cx="24390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1987560" y="3003480"/>
            <a:ext cx="198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Virtual memory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289120" y="2971800"/>
            <a:ext cx="209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hysical memory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74560" y="36576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62400" y="51372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60360" y="5746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13040" y="5746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36720" y="327672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4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83680" y="327672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4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41200" y="5365800"/>
            <a:ext cx="1713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0xd0000000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11400" y="640080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n OpenBSD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2nd Step: Craft Handl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8" name="handler" descr=""/>
          <p:cNvPicPr/>
          <p:nvPr/>
        </p:nvPicPr>
        <p:blipFill>
          <a:blip r:embed="rId1"/>
          <a:stretch/>
        </p:blipFill>
        <p:spPr>
          <a:xfrm>
            <a:off x="595440" y="1614600"/>
            <a:ext cx="8396280" cy="50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9" name=""/>
          <p:cNvSpPr/>
          <p:nvPr/>
        </p:nvSpPr>
        <p:spPr>
          <a:xfrm>
            <a:off x="1981080" y="3200400"/>
            <a:ext cx="3657600" cy="152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3rd Step: Default Handler Replacemen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1" name="expoit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8076960" cy="467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st step: SMI gene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3" name="SMI" descr=""/>
          <p:cNvPicPr/>
          <p:nvPr/>
        </p:nvPicPr>
        <p:blipFill>
          <a:blip r:embed="rId1"/>
          <a:stretch/>
        </p:blipFill>
        <p:spPr>
          <a:xfrm>
            <a:off x="914400" y="2711520"/>
            <a:ext cx="8077320" cy="178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id it work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o protected mode overwrites EIP with the address of the test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gram displays that the secure level has been lowered. This proves that we had successfully gone into SM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that the secure level was low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test" descr=""/>
          <p:cNvPicPr/>
          <p:nvPr/>
        </p:nvPicPr>
        <p:blipFill>
          <a:blip r:embed="rId1"/>
          <a:stretch/>
        </p:blipFill>
        <p:spPr>
          <a:xfrm>
            <a:off x="1676520" y="1685880"/>
            <a:ext cx="6400800" cy="12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sible countermeasu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 from the system administrator: decide that the X server will not be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dep.allowaperture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ch the BIOS or the OS: Set the D_LCK bit in the early boot st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ent access to the SMRAM regist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d I/O fil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IOPL, I/O Bitmap management on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IO accesses from ring 3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PC architecture and I/O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Using System Management Mode to Circumvent Operating System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A sample exploit on OpenBS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PC architecture and I/O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Using System Management Mode to Circumvent Operating System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A sample exploit on OpenBS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fficiency of the attac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2438280" y="1785960"/>
          <a:ext cx="5029200" cy="4157640"/>
        </p:xfrm>
        <a:graphic>
          <a:graphicData uri="http://schemas.openxmlformats.org/drawingml/2006/table">
            <a:tbl>
              <a:tblPr/>
              <a:tblGrid>
                <a:gridCol w="3047760"/>
                <a:gridCol w="1981440"/>
              </a:tblGrid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ack scheme 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dows X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ux 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BS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BS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nBS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3" name="croix" descr=""/>
          <p:cNvPicPr/>
          <p:nvPr/>
        </p:nvPicPr>
        <p:blipFill>
          <a:blip r:embed="rId1"/>
          <a:stretch/>
        </p:blipFill>
        <p:spPr>
          <a:xfrm>
            <a:off x="6248520" y="2548080"/>
            <a:ext cx="485640" cy="590400"/>
          </a:xfrm>
          <a:prstGeom prst="rect">
            <a:avLst/>
          </a:prstGeom>
          <a:ln w="0">
            <a:noFill/>
          </a:ln>
        </p:spPr>
      </p:pic>
      <p:pic>
        <p:nvPicPr>
          <p:cNvPr id="404" name="tick" descr=""/>
          <p:cNvPicPr/>
          <p:nvPr/>
        </p:nvPicPr>
        <p:blipFill>
          <a:blip r:embed="rId2"/>
          <a:stretch/>
        </p:blipFill>
        <p:spPr>
          <a:xfrm>
            <a:off x="6296040" y="3252960"/>
            <a:ext cx="485640" cy="590400"/>
          </a:xfrm>
          <a:prstGeom prst="rect">
            <a:avLst/>
          </a:prstGeom>
          <a:ln w="0">
            <a:noFill/>
          </a:ln>
        </p:spPr>
      </p:pic>
      <p:pic>
        <p:nvPicPr>
          <p:cNvPr id="405" name="tick" descr=""/>
          <p:cNvPicPr/>
          <p:nvPr/>
        </p:nvPicPr>
        <p:blipFill>
          <a:blip r:embed="rId3"/>
          <a:stretch/>
        </p:blipFill>
        <p:spPr>
          <a:xfrm>
            <a:off x="6296040" y="3938760"/>
            <a:ext cx="485640" cy="590400"/>
          </a:xfrm>
          <a:prstGeom prst="rect">
            <a:avLst/>
          </a:prstGeom>
          <a:ln w="0">
            <a:noFill/>
          </a:ln>
        </p:spPr>
      </p:pic>
      <p:pic>
        <p:nvPicPr>
          <p:cNvPr id="406" name="tick" descr=""/>
          <p:cNvPicPr/>
          <p:nvPr/>
        </p:nvPicPr>
        <p:blipFill>
          <a:blip r:embed="rId4"/>
          <a:stretch/>
        </p:blipFill>
        <p:spPr>
          <a:xfrm>
            <a:off x="6324480" y="4624560"/>
            <a:ext cx="486000" cy="590400"/>
          </a:xfrm>
          <a:prstGeom prst="rect">
            <a:avLst/>
          </a:prstGeom>
          <a:ln w="0">
            <a:noFill/>
          </a:ln>
        </p:spPr>
      </p:pic>
      <p:pic>
        <p:nvPicPr>
          <p:cNvPr id="407" name="tick" descr=""/>
          <p:cNvPicPr/>
          <p:nvPr/>
        </p:nvPicPr>
        <p:blipFill>
          <a:blip r:embed="rId5"/>
          <a:stretch/>
        </p:blipFill>
        <p:spPr>
          <a:xfrm>
            <a:off x="6324480" y="5310360"/>
            <a:ext cx="48600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vilege escal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most systems, being able to carry out this scheme means being granted superuser privile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OpenBSD, root is only granted limited privileges. That is why the attack scheme is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may be easier ways to bypass the Secure Level mechanism. But more than the result, the attack scheme in itself is interesting: unused, legacy or routinely used functionalities can be used from userspace to circumvent operating system security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problems is X requiring too many privile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documented functionalities of the Pentiu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cessor and its chipset were use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yet we have been able to circumvent operating system security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this point to a consistency issue in hardware and OS security mode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PL and I/O privileges at st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emonstrates the need for trust in, and wise use of, hardware compon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30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ny question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33560" y="4038480"/>
            <a:ext cx="43261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ic.duflot@sgdn.pm.gouv.f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22040" y="5891040"/>
            <a:ext cx="698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Joint work with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livier Grumelard (SGDN/DCSS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niel Etiemble (Paris XI University, LRI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mplified Pentium 4 architectu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72080" y="1295280"/>
            <a:ext cx="2057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27432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43480" y="4343400"/>
            <a:ext cx="2514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19560" y="59119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28800" y="59119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6040" y="591192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5257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5257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1320" y="5257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4876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4800600"/>
            <a:ext cx="1524240" cy="152280"/>
          </a:xfrm>
          <a:prstGeom prst="leftRightArrow">
            <a:avLst>
              <a:gd name="adj1" fmla="val 50000"/>
              <a:gd name="adj2" fmla="val 1992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70640" y="47242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06880" y="469260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6480" y="2057400"/>
            <a:ext cx="228600" cy="685800"/>
          </a:xfrm>
          <a:prstGeom prst="upDownArrow">
            <a:avLst>
              <a:gd name="adj1" fmla="val 50000"/>
              <a:gd name="adj2" fmla="val 597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86480" y="3657600"/>
            <a:ext cx="228600" cy="685800"/>
          </a:xfrm>
          <a:prstGeom prst="upDownArrow">
            <a:avLst>
              <a:gd name="adj1" fmla="val 50000"/>
              <a:gd name="adj2" fmla="val 597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76640" y="380988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Hub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5400" y="22096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ront Side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3200400"/>
            <a:ext cx="1523880" cy="152280"/>
          </a:xfrm>
          <a:prstGeom prst="leftRightArrow">
            <a:avLst>
              <a:gd name="adj1" fmla="val 50000"/>
              <a:gd name="adj2" fmla="val 1992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57800" y="3200400"/>
            <a:ext cx="1523880" cy="152280"/>
          </a:xfrm>
          <a:prstGeom prst="leftRightArrow">
            <a:avLst>
              <a:gd name="adj1" fmla="val 50000"/>
              <a:gd name="adj2" fmla="val 1992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75720" y="30481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83240" y="292428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ispl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69960" y="15238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21520" y="2924280"/>
            <a:ext cx="73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North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2920" y="4648320"/>
            <a:ext cx="117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outh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2590920"/>
            <a:ext cx="2971800" cy="2895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62320" y="17524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1447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hip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/O ports acc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/O access mechanis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pped I/O (MM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/O registers are mapped in physical address 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d I/O (P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/O registers are mapped on a separate 16-bit b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Memory Access (D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pherals act as masters on the PCI b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Q to the proces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direct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ynchrono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ur modes of ope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3505320"/>
            <a:ext cx="2438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ed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4952880"/>
            <a:ext cx="2438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rtual 8086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2057400"/>
            <a:ext cx="2438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 Address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514600" y="2742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2743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4191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191120" y="4191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3505320"/>
            <a:ext cx="24386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23623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4495680" y="236196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95680" y="3733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495680" y="3962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495680" y="4190760"/>
            <a:ext cx="2438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495680" y="4191120"/>
            <a:ext cx="27432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71760" y="34732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84720" y="39625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58880" y="2819520"/>
            <a:ext cx="8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=0 or 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32040" y="281952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4343400"/>
            <a:ext cx="76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M=0 or 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92720" y="441972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M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6240" y="38862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4360" y="297180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71760" y="44956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9120" y="4648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7080" y="259092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sm or 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76" idx="1"/>
            <a:endCxn id="177" idx="1"/>
          </p:cNvCxnSpPr>
          <p:nvPr/>
        </p:nvCxnSpPr>
        <p:spPr>
          <a:xfrm flipH="1" rot="10800000">
            <a:off x="2057040" y="2399760"/>
            <a:ext cx="2160" cy="289620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tected mo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 security mechanis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 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privileged: Ring 0 (kernel exec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st privileged: Ring 3 (user space c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ation and Pag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-based memory protection che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ed instructions (HLT, LGDT, INV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 of execution of most operating systems (Windows, Linux, OpenBSD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rotecting memory: Hardware mechanism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324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m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ilege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 access restrictions (type and DP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ing (when enabled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/supervisor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/Write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Xecute/ eXecute Disable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te a few security techniques (W^X, PaX…) rely upon such mechanis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2:01:24Z</dcterms:created>
  <dc:creator>duflot</dc:creator>
  <dc:description/>
  <dc:language>en-US</dc:language>
  <cp:lastModifiedBy>SI</cp:lastModifiedBy>
  <dcterms:modified xsi:type="dcterms:W3CDTF">2006-04-06T19:39:13Z</dcterms:modified>
  <cp:revision>139</cp:revision>
  <dc:subject/>
  <dc:title>Étude des vulnérabilités potentielles liées au mode de maintenance SMM des composants Pentium.  </dc:title>
</cp:coreProperties>
</file>